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6FD50E-ADF2-4274-8952-F2340F147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9ED901-0175-4B34-92E8-7679A0EE3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1E9ADF-0C6E-424F-A370-3E8217E8C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781133-8151-4FAA-AFB3-BFB37E05A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E8828-1568-4C29-88D1-76912973B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CC895-4957-44E2-B99B-8E34DD661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35700-20F8-4048-9265-D94EC7DA9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4F347-87F3-46A0-919F-B634266E1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B27A8-CEFB-4FC9-804A-8988EC46D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572AF-BF23-4D69-8B0B-0FDB56884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9CC93-41ED-41D3-81E8-6B1E2CF98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4E1EBC-AB97-46D1-8E33-3EF2365DD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96E86-F2EA-417B-A1B4-2F2BEA2B7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3313F-CFCA-4F1E-AC95-A22D2ECBE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D8DC2-37AB-4B28-9BF5-228D9FB34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511D1-5338-4F34-B281-476A6C390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41A98-6219-4236-8FC1-2DF53979E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3F7098-7084-4CCC-98F9-812808FE0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F52A4E-BA4A-48AF-931C-3222D9DC5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010594-91F3-41B8-A11D-A760E2F24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BA4C12-F37A-4C66-8874-1D0E24CC1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5EBDE3-B025-4B6A-98A7-D4779A715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F812E3-5580-43A1-B183-B846747C7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3B5B7D-9F77-41FC-BA21-BDD318D66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3F0BC-8D73-4928-BEDB-E06E7ED44662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63D4D-CC78-482C-84E2-00565F5E9936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4"/>
          <p:cNvSpPr/>
          <p:nvPr/>
        </p:nvSpPr>
        <p:spPr>
          <a:xfrm>
            <a:off x="-1087560" y="1691640"/>
            <a:ext cx="1113156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56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(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407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1.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О, Исусе, о, Ти надежда моя,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ако ме не избави с кръвта Твоя,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къде аз бих намерил утешение,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мир и спасение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1/4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"/>
          <p:cNvSpPr/>
          <p:nvPr/>
        </p:nvSpPr>
        <p:spPr>
          <a:xfrm>
            <a:off x="179280" y="1526760"/>
            <a:ext cx="896472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2.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От скръб не знаех къде да ида аз,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но Ти с любов Си пълен, Спасителю!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Ти ме подкрепяш в най-скръбния ми ден -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няма друг за мен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2/4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2"/>
          <p:cNvSpPr/>
          <p:nvPr/>
        </p:nvSpPr>
        <p:spPr>
          <a:xfrm>
            <a:off x="179280" y="2326680"/>
            <a:ext cx="89647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3.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Благодаря Ти, Боже, от сърце,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че със спасителните Си ръце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в светата Твоя църква Си ме въвел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и от свят извел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3/4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"/>
          <p:cNvSpPr/>
          <p:nvPr/>
        </p:nvSpPr>
        <p:spPr>
          <a:xfrm>
            <a:off x="179280" y="1717200"/>
            <a:ext cx="896472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4.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Дай да остана верен до самий край,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докат ме вземеш в славния, блажен рай!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Там аз ще хваля с радост любовта Ти,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що ме пощади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4/4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7T20:03:35Z</dcterms:created>
  <dc:creator>123</dc:creator>
  <dc:description/>
  <dc:language>en-US</dc:language>
  <cp:lastModifiedBy>SDA</cp:lastModifiedBy>
  <dcterms:modified xsi:type="dcterms:W3CDTF">2009-10-24T15:50:22Z</dcterms:modified>
  <cp:revision>42</cp:revision>
  <dc:subject/>
  <dc:title>Slide 1</dc:title>
</cp:coreProperties>
</file>